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E4B-5636-478E-AF47-B5B10B18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597C-87B7-4C54-BA07-74EB9CA07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6A25-0893-456F-BC78-9969DFA9A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9F6E-D548-4A96-B86F-2451BA4C3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2DAD-9C23-4449-8A0A-E556FD799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C520-A539-455C-954A-E54A14FB1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1FE-9BE1-477C-A110-936F8E5E6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1B74-9624-405E-927E-1007168DAE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F6A-1C8E-4CE5-93A3-7CF6BA833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8811-E9DF-4D3A-A5DC-58680DFA3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953-9781-4FFC-B94A-FD6AA4A9E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53BF-97A7-463A-A9A2-38142989A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6EB-9971-4423-A12C-4E8F9DE81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9BC7-21B0-4A0B-B1D0-59C1835BA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70C-E974-4F10-BC6F-833348A5D2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556-1D98-40CE-9C56-4A74A7FE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AA8-1DAB-473A-8C91-7D103FA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A0E-1130-4051-8F8A-E0EC003D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070-3985-488D-9DA1-76037D47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F4B4-A7C5-49D9-AF14-705BC79F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AA8-57E1-4220-98C5-F6D70A9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4242-C6DC-4A4F-934C-A161209B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974-2518-46F0-8AFD-8347E2AC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8ADD-6D86-4F95-BB69-DFE5EF5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5F66-E3CB-4889-87C5-B20B2DB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AE6-041A-41B6-8BF1-25A2677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774-C21C-40C8-8A61-52A7EB3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FA1C-E485-4CEE-A178-0859E19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1DF-E8D2-4003-875B-6287223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883-289B-437C-9837-140F0EE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66C2-0407-471D-B416-8BEC7DC7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7711-1BA4-4963-B091-50A43094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645-D916-4372-9844-E9214FB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D39-FA15-4036-B168-EA4B975C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4CE-F7FA-448B-AAAE-C66E2E3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C43-B882-45BF-95EC-780BFE7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D68-AC65-4567-BC19-19B21300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7F9-240B-45E6-8BD5-FA42CAF0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767-F1EB-42DE-8893-39934D7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6F1-CD5F-4802-9070-1524D2043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132-633F-4A73-8ADE-E06266569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 has a mass number of 7 and an atomic number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 = 4 (mass # -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e the number of subatomic particles in the following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 has a mass # of 35 and an atomic # of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 has a mass # of 39 and an atomic # of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es carbon look lik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# = 12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ic #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733920" y="2590920"/>
            <a:ext cx="198108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114800" y="2971800"/>
            <a:ext cx="121932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553080" y="2819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6 p and 6 n live in the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4876920" y="3124080"/>
            <a:ext cx="1676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51055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648320" y="45720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i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tons and neutrons live compacted in the tiny positively charged nucleus accounting for most of the mas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egatively charged electrons are small and have a relatively small mass but occupy a large volume of space outside the nucle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 subatomic particles balance each othe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n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rotons = th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20 protons are present in an atom then 20 electrons are there to balance the overall charge of the atom—atoms are neu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utrons have no charge; therefore they do not have to equal the number of protons or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ic number:  this number indicates the number of prot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Hydrogen’s atomic number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hydrogen has 1 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Carbon’s atomic number i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carbon has 6 pr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*The number of protons identifies the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 2 protons = He, 29 protons =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number:  the number of protons and neutrons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:  hydrogen can have a mass of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it has 1 proton it must have 0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jcameron</dc:creator>
  <dc:description/>
  <dc:language>en-US</dc:language>
  <cp:lastModifiedBy>jcameron</cp:lastModifiedBy>
  <dcterms:modified xsi:type="dcterms:W3CDTF">2013-03-07T15:00:21Z</dcterms:modified>
  <cp:revision>15</cp:revision>
  <dc:subject/>
  <dc:title>Atomic Structure</dc:title>
</cp:coreProperties>
</file>